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0071-B3F9-42F6-B228-542B70A69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00D2-5EA7-4DCA-A392-F6B0977B4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980F-0CCB-4DB9-996B-606F06A83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2B7-D18A-4038-9588-96BD391C9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71C-6F52-4D00-A0C5-BF8F31A3C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A0E-A67B-4C15-AC48-4FFD0E47B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DC3-17D7-4D3C-B39A-8CCBB383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7B0-23E7-4903-89C7-AB0F651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6A3-6002-4CDD-A482-BF400AB1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245-AB6B-4669-9C62-97A6E64E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C12-A03D-4D13-A822-9EBD2A2B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686-3EF3-4A06-B036-E2FFAE3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ED7-4792-4424-808B-D2738BE6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A4B-6EBE-4AC1-852E-6E45AE5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647-E887-4467-BC72-1BA5B94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23D-C9F6-4E6B-BD39-6D09714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E62-2C2B-4B05-968C-059756D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6E7-9B20-4052-8417-C30D55B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EAA-5B4B-40A4-98E4-EA6125B7A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s3.amazonaws.com/SpotJots/Jots/fooding.1207983256000.hamburger.jpg&amp;imgrefurl=http://www.americanidol.com/myidol/blogs/view/%3Fun%3D44oberman%26eid%3D261052&amp;usg=__yOx8JMrrJ9PbmgAhCeU_SEZe-6w=&amp;h=863&amp;w=1040&amp;sz=37&amp;hl=en&amp;start=1&amp;sig2=kYgM3-dZ_3FBZ4UBzYga_A&amp;um=1&amp;tbnid=1JLVN478nWgTMM:&amp;tbnh=124&amp;tbnw=150&amp;ei=9MxISeHAMpTcwgGOuplM&amp;prev=/images%3Fq%3Dhamburger%26um%3D1%26hl%3Den%26rlz%3D1T4GGIH_en-GBGB261GB261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oxgangs.ik.org/img/gymnastics_pic.gif&amp;imgrefurl=http://www.oxgangs.ik.org/gallery/1136862820.ikml&amp;usg=__3fTH-BkDwl79vGQ3MwDWx2vdGec=&amp;h=379&amp;w=490&amp;sz=6&amp;hl=en&amp;start=13&amp;sig2=w5pft-w1NSIiLBIpw8xIRA&amp;um=1&amp;tbnid=GpDLCankYSgYVM:&amp;tbnh=101&amp;tbnw=130&amp;ei=H81IScnvJI6WwQHe1u1Q&amp;prev=/images%3Fq%3Dgymnastics%26um%3D1%26hl%3Den%26rlz%3D1T4GGIH_en-GBGB261GB26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percoolgifts.co.uk/acatalog/Light_up_footballs.jpg&amp;imgrefurl=http://www.supercoolgifts.co.uk/acatalog/Colour_changing_led_football____6_99.html&amp;usg=__90QFrUyNu7Ce-ENeC-YluWkXWUw=&amp;h=450&amp;w=450&amp;sz=37&amp;hl=en&amp;start=7&amp;sig2=mW77376870tzbSP-ySTWgg&amp;um=1&amp;tbnid=e0pf3Czcpryv9M:&amp;tbnh=127&amp;tbnw=127&amp;ei=Ts1ISdCxIYW4wQHFwfVU&amp;prev=/images%3Fq%3Dfootball%26um%3D1%26hl%3Den%26rlz%3D1T4GGIH_en-GBGB261GB26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amphotobank.com/d/3312-1/anfield_1_1024x768.jpg&amp;imgrefurl=http://www.siamphotobank.com/main.php%3Fg2_view%3Dslideshow.Slideshow%26g2_itemId%3D650&amp;usg=__SsjBZxHYI-KdFWGI7994HYCbtBY=&amp;h=768&amp;w=1024&amp;sz=128&amp;hl=en&amp;start=1&amp;sig2=vJORjzb54SIQ0vqqcPzEug&amp;um=1&amp;tbnid=6_CeduytS3TTXM:&amp;tbnh=113&amp;tbnw=150&amp;ei=7c1IScrxI5vIwQGH_bxJ&amp;prev=/images%3Fq%3DAnfield%26um%3D1%26hl%3Den%26rlz%3D1T4GGIH_en-GBGB261GB261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images.quickblogcast.com/92912-88346/real_madrid_logo.png&amp;imgrefurl=http://italiansoccerseriea.com/2008/10/20/results-uefa-champions-league-group-stage-h-matchday-3--fc-juventus--real-madrid.aspx&amp;usg=__JczfL92oaGKp4lwuYVSdEFatrRI=&amp;h=599&amp;w=428&amp;sz=114&amp;hl=en&amp;start=1&amp;sig2=lDfrPH566X_xxkEtp6TjpA&amp;um=1&amp;tbnid=NVhtjtZTMaK-JM:&amp;tbnh=135&amp;tbnw=96&amp;ei=-M5ISfmDCKbIwgGFkJBK&amp;prev=/images%3Fq%3DReal%2BMadrid%26um%3D1%26hl%3Den%26rlz%3D1T4GGIH_en-GBGB261GB26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333360"/>
            <a:ext cx="79200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pairs, work out how to say the following phrases, IN SPA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like playing football because it’s soc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going to do gym because it’s good for the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going to go to Barnstaple because it’s f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believe that (check your present tense sheets) playing handball is important in Spain [en Esp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ña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3141720"/>
            <a:ext cx="79200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 gusta jugar al f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útbol porque es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oy a practicar la gimnasia porque es bien para la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mos a ir a Barnstaple porque es divert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o que jugar al balonmano es importante en Esp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vise giving opinions of leis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work together to make posters about how often people do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how to say how often you do diffe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79640" y="692280"/>
            <a:ext cx="5472000" cy="703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a estar en form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20716800">
            <a:off x="331920" y="2114640"/>
            <a:ext cx="490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s importante de practicar muchos deportes-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ENUDO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 rot="1483800">
            <a:off x="4716000" y="4220640"/>
            <a:ext cx="41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Personalmente me encanta practicar la gimnasia dos veces por semana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843280" y="5877000"/>
            <a:ext cx="41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Tengo que jugar al 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útbol cada día- es muy divertido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 rot="544800">
            <a:off x="925200" y="4479480"/>
            <a:ext cx="45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¿Hamburguesas? No, casi nunca- no son buenas para la salud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 rot="20655600">
            <a:off x="4572000" y="2133720"/>
            <a:ext cx="41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&lt;&lt;¿Drogas? Les probé una vez, pero son horribles, ¡urgh!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foo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300640"/>
            <a:ext cx="142884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gymnastics_pi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997360"/>
            <a:ext cx="1655640" cy="128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Light_up_footbal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87640" y="3068640"/>
            <a:ext cx="1209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5640" y="0"/>
            <a:ext cx="799308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¿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Wh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a vez por sem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ce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s ve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or m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wice a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fin de sem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vie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’s 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sa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st (p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enu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e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guie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óxi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i nunc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most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W TRY TO DESCRIBE HOW OFTEN YOU DO DIFFERENT LEIUR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187280" y="333360"/>
            <a:ext cx="6840720" cy="9320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0000"/>
                </a:solidFill>
                <a:latin typeface="Arial"/>
              </a:rPr>
              <a:t>El estadio de Anfiel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1628640"/>
            <a:ext cx="835164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fin de semana que vie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GRAN PARTI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ERPOOL CONTRA REAL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radas a vender: lunes 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ábado , 11h00- 18h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dultos: €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iños: €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ximo partido a Anfield será el domingo siguiente contra Manchester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nfield_1_1024x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149720"/>
            <a:ext cx="2232360" cy="16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real_madrid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189000"/>
            <a:ext cx="91440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liverpool-fc-crest"/>
          <p:cNvPicPr/>
          <p:nvPr/>
        </p:nvPicPr>
        <p:blipFill>
          <a:blip r:embed="rId5"/>
          <a:stretch/>
        </p:blipFill>
        <p:spPr>
          <a:xfrm>
            <a:off x="179280" y="260280"/>
            <a:ext cx="9050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9:52:02Z</dcterms:created>
  <dc:creator>Owner1</dc:creator>
  <dc:description/>
  <dc:language>en-US</dc:language>
  <cp:lastModifiedBy>Chris</cp:lastModifiedBy>
  <dcterms:modified xsi:type="dcterms:W3CDTF">2009-01-26T12:52:39Z</dcterms:modified>
  <cp:revision>14</cp:revision>
  <dc:subject/>
  <dc:title>Slide 1</dc:title>
</cp:coreProperties>
</file>